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36A-2B4F-49C6-AE85-BE630DCC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1E9-E579-4FD4-84A5-3E81FF11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159-D4A1-48B9-B292-F2A92648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B86-3085-458D-A758-26F29410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DBD1-701E-4E09-AAC4-1F80B292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37B-7E2A-4010-9C68-6D02526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E936-0AF2-44C1-9AF7-61E91147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2E34-894F-4DE7-83D9-C650E3D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33D7-F8E5-4777-96F7-C195FB26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14CA-849C-4EF8-98E0-10B50F3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3455-6936-4199-A526-E0D5177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431-B0D1-47BB-BF2F-F2D6D2E7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D5CA-D044-4563-BA13-363C6F7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29E6-2024-4B31-9228-C3D62D5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33A7-F00F-46EE-A429-C90BA7A8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9F51-6EE4-4242-AEA5-A2B4A873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17AC-9B09-4158-949F-7CDA4A17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F9D6-67A3-471A-8517-846E998A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ADDA-9EE3-4B68-8694-9F6501A8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646B-8595-4E4D-BFFF-F305C3D1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1619-AF0D-40E9-8D20-2A8A48C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1AD6-5BB0-419E-8740-857326F6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A33-126B-4AAD-9755-63B3281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D8DB-D778-4F3C-9B9B-CACCFC9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0ED2-3F13-4094-B7BC-8440351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1EB7-E606-4FDF-AD46-B97C861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5FF8-1A0D-4B2C-9F99-00341AC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9CEE-0A61-41F6-901F-68F468B1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2D4B-4C46-42AE-BBCA-87526EAE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6852-5962-4DED-8CD1-6DBDE85C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655C7-DCBE-4990-98C3-9D2AECC1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A651-ADDE-4B32-A8A4-5A29BB3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3093-AED4-4BDC-91F0-83E79ADB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4A0-521C-4F05-81E2-C05B5BF1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7B6C-0A7A-4D9F-9347-BDB4838D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D3E1B-89AD-4BFC-A167-2C58881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FEB5-C9D4-41F4-A7E2-629A7735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F7CA-9145-4FBE-B147-E8B6AB37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8AB83-81D7-4E21-BA9A-94D38075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E825-F87F-4D7E-B449-7B763EBC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EBF2-FFE0-4556-89E2-72EC9EC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14AA-E4FC-45CB-9C90-6F6C5F9B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F7BE-3060-46FA-8B9B-C173C68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27E-A449-4B55-9582-6A9EBA60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C0D-A351-4D08-A4E2-658F391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EF3-BB68-4467-AAEE-21CB64E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8CC-B859-43A4-A83B-0BDF5D7E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37B-A830-4782-B77E-0B366A9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662F-75A0-47D0-BA2E-FEAA5CB2EB3E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07C-127D-418F-94AF-D943815C6438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7AD-F2BC-4603-9268-4186DB087185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73000" y="321300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4EF-2265-46D1-81EC-8FEE13543A60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rcRect l="0" t="0" r="34264" b="0"/>
          <a:stretch/>
        </p:blipFill>
        <p:spPr>
          <a:xfrm>
            <a:off x="5292720" y="0"/>
            <a:ext cx="3803760" cy="3235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hyperlink" Target="http://static.sxc.hu/k/ko/kotz/805617_73432462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ession 4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ednesday Aug 20</a:t>
            </a:r>
            <a:r>
              <a:rPr b="0" lang="en-US" sz="4000" spc="-1" strike="noStrike" baseline="30000">
                <a:solidFill>
                  <a:srgbClr val="0d469b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, 2008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7:00 – 8:30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42840" y="29829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through the 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592360" y="5300280"/>
            <a:ext cx="6012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4: TIPS MP Continuum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ame / Differen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589120"/>
            <a:ext cx="822960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2 different MP c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imilarities and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eat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280" y="184464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897800">
            <a:off x="6730560" y="2349720"/>
            <a:ext cx="1981080" cy="398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pres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0983800">
            <a:off x="5255640" y="5624640"/>
            <a:ext cx="1981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515000">
            <a:off x="6410160" y="4150080"/>
            <a:ext cx="1981080" cy="703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asoning &amp; 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978600">
            <a:off x="3204360" y="4761000"/>
            <a:ext cx="1981080" cy="39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552800">
            <a:off x="865080" y="5121360"/>
            <a:ext cx="1981080" cy="703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ols &amp; Comp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Guess the Proces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created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n’t tell the proces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conjectures what process is being focussed on, and explain their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87480" y="1197000"/>
            <a:ext cx="9056160" cy="5292720"/>
            <a:chOff x="87480" y="1197000"/>
            <a:chExt cx="9056160" cy="5292720"/>
          </a:xfrm>
        </p:grpSpPr>
        <p:sp>
          <p:nvSpPr>
            <p:cNvPr id="185" name=""/>
            <p:cNvSpPr/>
            <p:nvPr/>
          </p:nvSpPr>
          <p:spPr>
            <a:xfrm>
              <a:off x="117720" y="1414440"/>
              <a:ext cx="8966880" cy="506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87480" y="1197000"/>
            <a:ext cx="9056160" cy="52927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480" y="1197000"/>
                      <a:ext cx="9056160" cy="529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8" name=""/>
          <p:cNvSpPr/>
          <p:nvPr/>
        </p:nvSpPr>
        <p:spPr>
          <a:xfrm>
            <a:off x="108000" y="620640"/>
            <a:ext cx="57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99"/>
                </a:solidFill>
                <a:latin typeface="Arial"/>
              </a:rPr>
              <a:t>Frayer Model </a:t>
            </a:r>
            <a:r>
              <a:rPr b="1" lang="en-CA" sz="2000" spc="-1" strike="noStrike">
                <a:solidFill>
                  <a:srgbClr val="000099"/>
                </a:solidFill>
                <a:latin typeface="Arial"/>
              </a:rPr>
              <a:t>(expert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1387440"/>
            <a:ext cx="34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 (expectation in own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8000" y="5959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11920" y="5959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2000" y="1413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racteristics (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5160" y="2857680"/>
            <a:ext cx="4267080" cy="167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6920" y="3067200"/>
            <a:ext cx="27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MP of ses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762120"/>
            <a:ext cx="9115200" cy="5727600"/>
            <a:chOff x="0" y="762120"/>
            <a:chExt cx="9115200" cy="5727600"/>
          </a:xfrm>
        </p:grpSpPr>
        <p:sp>
          <p:nvSpPr>
            <p:cNvPr id="196" name=""/>
            <p:cNvSpPr/>
            <p:nvPr/>
          </p:nvSpPr>
          <p:spPr>
            <a:xfrm>
              <a:off x="30240" y="997560"/>
              <a:ext cx="9025560" cy="548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0" y="762120"/>
            <a:ext cx="9115200" cy="5727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762120"/>
                      <a:ext cx="9115200" cy="572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9" name=""/>
          <p:cNvSpPr/>
          <p:nvPr/>
        </p:nvSpPr>
        <p:spPr>
          <a:xfrm>
            <a:off x="177840" y="43668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99"/>
                </a:solidFill>
                <a:latin typeface="Arial"/>
              </a:rPr>
              <a:t>Fray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5878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5867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9907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ts /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05160" y="2857680"/>
            <a:ext cx="4267080" cy="167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300204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004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ahoma"/>
              </a:rPr>
              <a:t>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6002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radley Hand ITC"/>
              </a:rPr>
              <a:t>An equation is a mathematical statement that shows that two expressions are eq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1676520"/>
            <a:ext cx="34290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ways has one equal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left side is equivalent to the righ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me equations have 0, 1, 2 or more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me equations are algebraic 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model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for relationships  (graphical &amp; numeric mod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4417920"/>
            <a:ext cx="38862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x – 2 = 4x + 7  (lin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b = ba  (ident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lw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(form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+ 6 = 11  (numer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x = 3 (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540320"/>
            <a:ext cx="2286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x + 3y (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rimeter (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x &lt; y (inequal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(nu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ahoma"/>
              </a:rPr>
              <a:t>Poly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with the MP in Mi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31640" y="2301840"/>
            <a:ext cx="8229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n expectation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up to 4 questions related to this expectation, 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question focuses on the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oncept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 procedure,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a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 proce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what it is about the question that justifies its fo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questions on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8880" y="16606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Development; in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4761000"/>
            <a:ext cx="1871640" cy="1736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588000" y="4616280"/>
            <a:ext cx="1814760" cy="1814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0000" y="1952640"/>
            <a:ext cx="1863720" cy="1650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59280" y="1197000"/>
            <a:ext cx="1837080" cy="1560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6696000" y="2781360"/>
            <a:ext cx="1289160" cy="1809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24360" y="2671920"/>
            <a:ext cx="2700000" cy="2419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600360" y="354024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Com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069 C 2.22222E-006 0.04468 -0.06684 0.21134 -0.14948 0.21134 C -0.2467 0.21134 -0.28264 0.04074 -0.29775 0.01667 L -0.31302 -0.01528 C -0.32813 -0.03935 -0.41476 -0.13519 -0.52448 -0.13519 C -0.59479 -0.13519 -0.6257 -0.04329 -0.6257 0.00069 C -0.6257 0.04468 -0.60816 0.24468 -0.53785 0.24468 C -0.42813 0.24468 -0.32813 0.04074 -0.31302 0.01667 L -0.29775 -0.01528 C -0.28264 -0.03935 -0.25 -0.1463 -0.15278 -0.1463 C -0.07014 -0.1463 2.22222E-006 -0.04329 2.22222E-006 0.00069 Z">
                                      <p:cBhvr>
                                        <p:cTn id="182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Home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2313000"/>
            <a:ext cx="75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by asking questions with different focuses, you are supporting DI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01440" y="3807360"/>
            <a:ext cx="2955600" cy="2403720"/>
            <a:chOff x="901440" y="3807360"/>
            <a:chExt cx="2955600" cy="2403720"/>
          </a:xfrm>
        </p:grpSpPr>
        <p:sp>
          <p:nvSpPr>
            <p:cNvPr id="226" name=""/>
            <p:cNvSpPr/>
            <p:nvPr/>
          </p:nvSpPr>
          <p:spPr>
            <a:xfrm rot="1497000">
              <a:off x="1086120" y="4285080"/>
              <a:ext cx="25858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83840" y="4398480"/>
              <a:ext cx="516240" cy="513360"/>
              <a:chOff x="1383840" y="4398480"/>
              <a:chExt cx="516240" cy="513360"/>
            </a:xfrm>
          </p:grpSpPr>
          <p:sp>
            <p:nvSpPr>
              <p:cNvPr id="228" name=""/>
              <p:cNvSpPr/>
              <p:nvPr/>
            </p:nvSpPr>
            <p:spPr>
              <a:xfrm rot="21283800">
                <a:off x="1426680" y="4436280"/>
                <a:ext cx="435960" cy="43596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1283800">
                <a:off x="1675440" y="4829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1283800">
                <a:off x="1656720" y="48160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283800">
                <a:off x="1640520" y="48337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1283800">
                <a:off x="1620000" y="481896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1283800">
                <a:off x="1582920" y="48218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1283800">
                <a:off x="1603080" y="4837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1283800">
                <a:off x="1510200" y="47908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83800">
                <a:off x="1495080" y="47764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1283800">
                <a:off x="1482480" y="476064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1283800">
                <a:off x="1450440" y="470988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283800">
                <a:off x="1448280" y="46771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1283800">
                <a:off x="1465560" y="4659120"/>
                <a:ext cx="18720" cy="4968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1283800">
                <a:off x="1444680" y="4644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283800">
                <a:off x="1458720" y="460008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283800">
                <a:off x="1546200" y="448200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283800">
                <a:off x="1522080" y="449784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283800">
                <a:off x="1510560" y="45144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283800">
                <a:off x="1500840" y="45288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283800">
                <a:off x="1490400" y="454104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283800">
                <a:off x="1478880" y="455544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283800">
                <a:off x="1468080" y="456984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283800">
                <a:off x="1466640" y="472248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283800">
                <a:off x="1526400" y="480492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283800">
                <a:off x="1553040" y="481392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283800">
                <a:off x="1666080" y="4477680"/>
                <a:ext cx="43200" cy="169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283800">
                <a:off x="1647720" y="4464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283800">
                <a:off x="1630440" y="448200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283800">
                <a:off x="1611000" y="44661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283800">
                <a:off x="1595520" y="4484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283800">
                <a:off x="1690560" y="44917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283800">
                <a:off x="1708920" y="4480920"/>
                <a:ext cx="19440" cy="4140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283800">
                <a:off x="1813680" y="4610520"/>
                <a:ext cx="19080" cy="5436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283800">
                <a:off x="1727280" y="44928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1283800">
                <a:off x="1742400" y="450252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1283800">
                <a:off x="1758240" y="4515480"/>
                <a:ext cx="18360" cy="6696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283800">
                <a:off x="1771200" y="4532760"/>
                <a:ext cx="18720" cy="8460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1283800">
                <a:off x="1789920" y="455148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1283800">
                <a:off x="1801440" y="457812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283800">
                <a:off x="1630080" y="4642560"/>
                <a:ext cx="259200" cy="23760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1283800">
                <a:off x="1630800" y="440892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283800">
                <a:off x="1415880" y="4673520"/>
                <a:ext cx="232200" cy="22788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1283800">
                <a:off x="1501200" y="4661640"/>
                <a:ext cx="28260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1283800">
                <a:off x="1394640" y="4430520"/>
                <a:ext cx="248760" cy="25344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1283800">
                <a:off x="1513080" y="4555440"/>
                <a:ext cx="88920" cy="7668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1283800">
                <a:off x="1668600" y="45410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1283800">
                <a:off x="1741320" y="4514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1283800">
                <a:off x="1757160" y="45295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1283800">
                <a:off x="1767960" y="454284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283800">
                <a:off x="1806480" y="461556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283800">
                <a:off x="1789920" y="4633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283800">
                <a:off x="1809360" y="4647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283800">
                <a:off x="1792800" y="46652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283800">
                <a:off x="1805040" y="468216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1283800">
                <a:off x="1796040" y="4699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1283800">
                <a:off x="1787760" y="4736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283800">
                <a:off x="1775880" y="47545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283800">
                <a:off x="1765800" y="47674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83800">
                <a:off x="1753920" y="478404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1283800">
                <a:off x="1733760" y="479880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283800">
                <a:off x="1691280" y="4812120"/>
                <a:ext cx="43200" cy="1764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283800">
                <a:off x="1777680" y="456048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283800">
                <a:off x="1789920" y="458028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283800">
                <a:off x="1724040" y="4501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283800">
                <a:off x="1703160" y="4487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283800">
                <a:off x="1684080" y="447660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51040" y="5028480"/>
              <a:ext cx="657360" cy="658800"/>
              <a:chOff x="2651040" y="5028480"/>
              <a:chExt cx="657360" cy="658800"/>
            </a:xfrm>
          </p:grpSpPr>
          <p:sp>
            <p:nvSpPr>
              <p:cNvPr id="295" name=""/>
              <p:cNvSpPr/>
              <p:nvPr/>
            </p:nvSpPr>
            <p:spPr>
              <a:xfrm flipH="1" rot="3311400">
                <a:off x="2760480" y="5136840"/>
                <a:ext cx="435960" cy="43560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3311400">
                <a:off x="2802600" y="5434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rot="3311400">
                <a:off x="2825280" y="54396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3311400">
                <a:off x="2822040" y="54630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3311400">
                <a:off x="2845800" y="546984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3311400">
                <a:off x="2868120" y="5500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3311400">
                <a:off x="2843280" y="5494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3311400">
                <a:off x="2939040" y="55360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3311400">
                <a:off x="2958480" y="5537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3311400">
                <a:off x="2979360" y="55375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3311400">
                <a:off x="3038400" y="552924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3311400">
                <a:off x="3065760" y="5509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rot="3311400">
                <a:off x="3056400" y="547920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3311400">
                <a:off x="3093120" y="54914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3311400">
                <a:off x="3107160" y="5446800"/>
                <a:ext cx="19440" cy="4356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3311400">
                <a:off x="3126960" y="529776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3311400">
                <a:off x="3148920" y="533484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3311400">
                <a:off x="3150360" y="53571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3311400">
                <a:off x="3145320" y="5374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3311400">
                <a:off x="3143520" y="538992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3311400">
                <a:off x="3138120" y="540828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3311400">
                <a:off x="3129840" y="542304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3311400">
                <a:off x="3009960" y="552024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3311400">
                <a:off x="2910600" y="552888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3311400">
                <a:off x="2885400" y="551340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3311400">
                <a:off x="3057480" y="5204880"/>
                <a:ext cx="43200" cy="165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3311400">
                <a:off x="3100320" y="522000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3311400">
                <a:off x="3096360" y="524412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311400">
                <a:off x="3121920" y="52495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3311400">
                <a:off x="3118320" y="527328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3311400">
                <a:off x="3050280" y="52041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3311400">
                <a:off x="3037680" y="5179320"/>
                <a:ext cx="19440" cy="4104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3311400">
                <a:off x="2866320" y="5180400"/>
                <a:ext cx="19080" cy="5400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3311400">
                <a:off x="3018600" y="51732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3311400">
                <a:off x="3000600" y="516816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3311400">
                <a:off x="2970720" y="5159520"/>
                <a:ext cx="18360" cy="6660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3311400">
                <a:off x="2942280" y="515772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3311400">
                <a:off x="2876040" y="513720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3311400">
                <a:off x="2869200" y="515520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3311400">
                <a:off x="2692440" y="5216760"/>
                <a:ext cx="259200" cy="23760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3311400">
                <a:off x="2886840" y="507348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3311400">
                <a:off x="2832840" y="5412960"/>
                <a:ext cx="232200" cy="22788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3311400">
                <a:off x="2779560" y="5336640"/>
                <a:ext cx="28260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3311400">
                <a:off x="3008880" y="5261760"/>
                <a:ext cx="248760" cy="25344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3311400">
                <a:off x="3036240" y="534456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3311400">
                <a:off x="2957400" y="5220720"/>
                <a:ext cx="76320" cy="7560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3311400">
                <a:off x="3000960" y="5180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3311400">
                <a:off x="2979720" y="5178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3311400">
                <a:off x="2960640" y="51775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3311400">
                <a:off x="2881440" y="519516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3311400">
                <a:off x="2878920" y="5220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3311400">
                <a:off x="2856240" y="5214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3311400">
                <a:off x="2852640" y="52387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rot="3311400">
                <a:off x="2832480" y="523980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3311400">
                <a:off x="2824920" y="52581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3311400">
                <a:off x="2801160" y="52884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3311400">
                <a:off x="2795760" y="5308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3311400">
                <a:off x="2792520" y="532548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rot="3311400">
                <a:off x="2787480" y="534492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3311400">
                <a:off x="2783520" y="53672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3311400">
                <a:off x="2784960" y="5401080"/>
                <a:ext cx="43200" cy="1728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3311400">
                <a:off x="2941200" y="518184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3311400">
                <a:off x="2911320" y="518256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3311400">
                <a:off x="3022200" y="51854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3311400">
                <a:off x="3045600" y="51919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3311400">
                <a:off x="3067200" y="520020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flipH="1">
              <a:off x="2085480" y="4422960"/>
              <a:ext cx="564840" cy="1127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Rod Yeager</cp:lastModifiedBy>
  <dcterms:modified xsi:type="dcterms:W3CDTF">2008-08-21T12:58:45Z</dcterms:modified>
  <cp:revision>133</cp:revision>
  <dc:subject/>
  <dc:title>Slide 1</dc:title>
</cp:coreProperties>
</file>